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4AE-8A62-43CF-A791-18BF2600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C99-1B92-4568-8E3B-AEBDF88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81D-4CA1-40C0-B662-AAC0567D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BAD-118E-42A5-97C6-775B9BC8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5F9-DE39-4368-87A4-B53EB661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4A6-4E80-477A-83A2-E1908DE3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B2C-3FE3-4459-A379-3FB4614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595-D594-4E36-9401-78DC3632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6F1-E20F-4DAC-8449-CE54A6F1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2D6-87BC-4C2A-9C31-875FE9F8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A98-0A6D-43A1-B3F8-DCF6308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709-E6FB-432B-BC9D-D0C7369A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82A-F436-43A0-BD83-F35A5EE4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232000" cy="15127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menti 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404640"/>
            <a:ext cx="3313080" cy="129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persone vanno a vive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 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vere in un 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76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413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940360" y="691920"/>
            <a:ext cx="1152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333360"/>
            <a:ext cx="165564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ovar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170028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1268280"/>
            <a:ext cx="2160360" cy="187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gg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 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sempio 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916280"/>
            <a:ext cx="3095640" cy="1873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do in un paese 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nieri a vivere e cer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341360"/>
            <a:ext cx="21600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2232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do le pers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un paese se 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nno all’ 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vivere e cer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vo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789360"/>
            <a:ext cx="20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3068640"/>
            <a:ext cx="251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Italia 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igranti 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5373720"/>
            <a:ext cx="1584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16720" y="4941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4941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445000"/>
            <a:ext cx="1871640" cy="98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2:37Z</dcterms:created>
  <dc:creator>studente</dc:creator>
  <dc:description/>
  <dc:language>en-US</dc:language>
  <cp:lastModifiedBy>studente</cp:lastModifiedBy>
  <dcterms:modified xsi:type="dcterms:W3CDTF">2017-01-09T10:31:28Z</dcterms:modified>
  <cp:revision>3</cp:revision>
  <dc:subject/>
  <dc:title>Diapositiva 1</dc:title>
</cp:coreProperties>
</file>